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26C9-1859-4958-8813-ADA4A39E8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 have seen from current Hughes Spalding Children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6CCE-BFA8-450E-9548-9E8D8BB4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52FE-D31C-495E-985B-5B5588CE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5DC-2C3D-4CF3-84EE-24816C0E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72E-7812-433B-A095-39E30D0B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DB2F-B000-45B6-AFEA-BEA4C08D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6035-46AD-4333-B195-9E205160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0827-19CB-45F9-AB34-D84830D8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62CF-1A46-452D-8684-ABB120C1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39ED-AE99-4759-8CB2-9C9E7851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F430-7847-4A78-90E6-277636F9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D21C-BCA4-49C0-808C-81EE2F40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C530-394D-4991-B4B1-DE7024FD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611E-038C-43FC-85C3-8F8202EB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AABC-569B-4378-985E-53FF5A3B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C515-2989-40A3-9C59-97440B1A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B083-3B48-4E19-9460-210B941F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EC17-86DD-44C9-9032-DB961855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52CE-AE58-4594-A814-A865B4A1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FDC3-DAE7-4803-863F-8E67DDD4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15B-369D-417A-8C08-E5A1DA6D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1BB3-264F-4CBF-8967-5C0C24B0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7A8E-F2A5-444B-837D-AD6099F3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CA5-69BF-4422-96BE-EAD0D6D8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FDB-C1CA-4F85-BB07-7D043318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2E04-C85F-4D01-AA49-57D9951F1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5CF5-88B3-4A60-A1C5-66A33EEFB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581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df53"/>
                </a:solidFill>
                <a:latin typeface="Arial"/>
              </a:rPr>
              <a:t>Transformation of Pediatric Care Sp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5028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diatric Design of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ll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TRANSFOR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ianna Jewell, Jamie Beyer, Jiten Chhabra, Hui Ca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19520" y="685800"/>
            <a:ext cx="3429000" cy="2776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914400" cy="1218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90720" y="1447920"/>
            <a:ext cx="914400" cy="1218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905120" y="1447920"/>
            <a:ext cx="914400" cy="1218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8077320" y="1447920"/>
            <a:ext cx="914400" cy="1218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7162920" y="1447920"/>
            <a:ext cx="914400" cy="121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6248520" y="1447920"/>
            <a:ext cx="91440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juvenate” the Waiting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23880"/>
            <a:ext cx="8153280" cy="0"/>
          </a:xfrm>
          <a:prstGeom prst="line">
            <a:avLst/>
          </a:prstGeom>
          <a:ln w="127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057400"/>
            <a:ext cx="6477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>
            <a:lum bright="-54000"/>
          </a:blip>
          <a:stretch/>
        </p:blipFill>
        <p:spPr>
          <a:xfrm>
            <a:off x="7620120" y="594360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>
            <a:lum bright="-54000"/>
          </a:blip>
          <a:stretch/>
        </p:blipFill>
        <p:spPr>
          <a:xfrm>
            <a:off x="7086600" y="6381720"/>
            <a:ext cx="62856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>
            <a:lum bright="-42000"/>
          </a:blip>
          <a:stretch/>
        </p:blipFill>
        <p:spPr>
          <a:xfrm>
            <a:off x="8305920" y="6172200"/>
            <a:ext cx="637920" cy="523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400800" y="5943600"/>
            <a:ext cx="914400" cy="576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228600" y="2971800"/>
            <a:ext cx="4040280" cy="3032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4067280" y="1905120"/>
            <a:ext cx="4086000" cy="3065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920" y="182880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There are more than one user gro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juvenate” the Waiting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523880"/>
            <a:ext cx="8153280" cy="0"/>
          </a:xfrm>
          <a:prstGeom prst="line">
            <a:avLst/>
          </a:prstGeom>
          <a:ln w="127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752480"/>
            <a:ext cx="8077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Kid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distractions for kid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ize the waiting area (kids drawings artworks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ic as active distraction and therapy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ill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kids: “ I-Dog tour guid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check-in (personal data, temperature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finding audio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resources and experiences (audio care-p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the kids keep connected with thei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>
            <a:lum bright="-54000"/>
          </a:blip>
          <a:stretch/>
        </p:blipFill>
        <p:spPr>
          <a:xfrm>
            <a:off x="7620120" y="533412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>
            <a:lum bright="-54000"/>
          </a:blip>
          <a:stretch/>
        </p:blipFill>
        <p:spPr>
          <a:xfrm>
            <a:off x="8515440" y="5638680"/>
            <a:ext cx="628560" cy="476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>
            <a:lum bright="-42000"/>
          </a:blip>
          <a:stretch/>
        </p:blipFill>
        <p:spPr>
          <a:xfrm>
            <a:off x="8505720" y="6334200"/>
            <a:ext cx="638280" cy="523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8229600" y="4952880"/>
            <a:ext cx="9144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juvenate” the Waiting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523880"/>
            <a:ext cx="8153280" cy="0"/>
          </a:xfrm>
          <a:prstGeom prst="line">
            <a:avLst/>
          </a:prstGeom>
          <a:ln w="127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Par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Informatio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screen shows the status of wai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education device (Information about the disease and procedure in different ro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space for parents, staff and other soci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orner for parents where they can send email, fax and provide other related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>
            <a:lum bright="-54000"/>
          </a:blip>
          <a:stretch/>
        </p:blipFill>
        <p:spPr>
          <a:xfrm>
            <a:off x="7620120" y="627696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>
            <a:lum bright="-54000"/>
          </a:blip>
          <a:stretch/>
        </p:blipFill>
        <p:spPr>
          <a:xfrm>
            <a:off x="7086600" y="6381720"/>
            <a:ext cx="628560" cy="476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>
            <a:lum bright="-42000"/>
          </a:blip>
          <a:stretch/>
        </p:blipFill>
        <p:spPr>
          <a:xfrm>
            <a:off x="8305920" y="6172200"/>
            <a:ext cx="637920" cy="523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095880" y="6281640"/>
            <a:ext cx="9144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juvenate” the Waiting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523880"/>
            <a:ext cx="8153280" cy="0"/>
          </a:xfrm>
          <a:prstGeom prst="line">
            <a:avLst/>
          </a:prstGeom>
          <a:ln w="127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ce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and control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 definition of z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>
            <a:lum bright="-54000"/>
          </a:blip>
          <a:stretch/>
        </p:blipFill>
        <p:spPr>
          <a:xfrm>
            <a:off x="7620120" y="627696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>
            <a:lum bright="-54000"/>
          </a:blip>
          <a:stretch/>
        </p:blipFill>
        <p:spPr>
          <a:xfrm>
            <a:off x="7086600" y="6381720"/>
            <a:ext cx="628560" cy="476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>
            <a:lum bright="-42000"/>
          </a:blip>
          <a:stretch/>
        </p:blipFill>
        <p:spPr>
          <a:xfrm>
            <a:off x="8305920" y="6172200"/>
            <a:ext cx="637920" cy="523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095880" y="6281640"/>
            <a:ext cx="914400" cy="576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2209680" y="3429000"/>
            <a:ext cx="3962520" cy="2689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2209680" y="3429000"/>
            <a:ext cx="396252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ing Recurring Patients with Preferred N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6019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to store which patients have had which n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ng system for n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patients will be placed in the available room which has a positively rated n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ffective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72200" y="1676520"/>
            <a:ext cx="2506680" cy="3886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Cams btw Patient and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camera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isolation, ICU and procedures using local anesthesia where family is not allowed in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osks in waiting room and option to have one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3030480" cy="3092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PACES AND DESIGNS FOR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MOTE MONITORING OF CHRONIC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657600" y="4572000"/>
            <a:ext cx="160344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886200" y="2971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676520" y="1828800"/>
            <a:ext cx="1614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EDIATRIC CHRONIC DIS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) SICKEL CELL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ccinations Pnuemo, Hep B, H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lic Acid + Penecillin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soocclusive crisis 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2) ASTH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 Med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st Atta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FT’S ABG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)TYPE 1 DIABETES MELLIT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ulin Do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erci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2:52:45Z</dcterms:created>
  <dc:creator>HCAI3</dc:creator>
  <dc:description/>
  <dc:language>en-US</dc:language>
  <cp:lastModifiedBy>HCAI3</cp:lastModifiedBy>
  <dcterms:modified xsi:type="dcterms:W3CDTF">2007-09-20T18:05:59Z</dcterms:modified>
  <cp:revision>24</cp:revision>
  <dc:subject/>
  <dc:title>Transformation of Pediatric Care Space</dc:title>
</cp:coreProperties>
</file>